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F57-C441-476E-A2D5-8F6212B5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9CE-30D2-4D6E-AA33-F072C5FD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E39-F8B6-49E3-9CEB-231411BB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08E-DB02-4BBC-B702-1D3677D6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C9F2-F9F5-43C0-B752-D87C8C2B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9556-3772-4BD4-A958-D6574105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C5DD-F7AC-45AC-B479-6F23F45F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7FF6-CEBE-428B-B5B5-6D1AB2EB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1D14-683D-4772-8C02-3B9ED243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12B5-CFFD-41CB-AA97-9C3A5B8A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146B-BC3E-4DF1-9ADA-915C2498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816-636B-4C94-9646-9892D23A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457C-A4A5-4DD1-80C1-1AD51440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C383-8930-4C70-A790-E503533C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2A56-666B-4340-898D-5BA1F0CF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C212-7567-4AE5-A4F3-B87CC3B8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1633-8931-49A7-B1DF-70F5D910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279-A320-46AC-BBE4-D9824C42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674-1252-4F02-8671-32236BD5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448-52E2-40F5-8265-FBF2F677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EFA-2825-424A-890A-88D9333D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EF7-A8AC-42E0-AE46-7781D9F6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494-9D6D-46B3-8B39-37988A32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71F-2BB3-4579-9128-D3E974A8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289B-E968-4E32-80AF-78F06E3C0F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48E5-8AF4-4CAF-8980-64EB079C58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а – это жизнь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ила студентка 143 группы Богданова Мария Михайлов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ый предм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щиеся 9 кла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новополагающий вопрос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изменяется ми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5724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блемные вопро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да, как дискета, записывает нашу жизн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не кончается вода на Земл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воду называют «золотом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чебные вопро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кое вода (строение молекулы воды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уговорот воды в природ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ва роль воды в живой и в не живой природ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даже в лютую зиму вода в водоемах не промерзает до дна? Какое это имеет значение для живой природы? В чем опасность айсбергов для судоходств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жно ли считать природную воду чистым (индивидуальным) вещество? Какая вода называется пресной? Соленой? Рассолом? Минеральной? . В чем сущность дистилляции воды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идактические цел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бщить, проанализировать и расширить знания учащихся о воде, ее роли в живой и неживой природе, в жизни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ширить знания об необходимости бережного отношения к водным ресурсам, роли каждого человека в решении экологических и экономических проблем гидросфер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ывать бережное отношение к природе; прививать любовь к русской природ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ть видение прекрасного во всём, что нас окруж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езультаты представления исследований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ентация: «Вода – как  дискета»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бликация: Почему вода – «жидкое золото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тапы и сроки проведения проект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этап: 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Знакомство с научными статьями и  исследованиями по данной теме.(2 часа).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этап: 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Демонстрация самостоятельной деятельности учащихся.(1 час)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3:05:34Z</dcterms:created>
  <dc:creator>26059</dc:creator>
  <dc:description/>
  <dc:language>en-US</dc:language>
  <cp:lastModifiedBy>User</cp:lastModifiedBy>
  <dcterms:modified xsi:type="dcterms:W3CDTF">2010-06-04T09:01:03Z</dcterms:modified>
  <cp:revision>17</cp:revision>
  <dc:subject/>
  <dc:title>Вода – это жизнь!</dc:title>
</cp:coreProperties>
</file>